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133E-61FC-44DC-AC07-285787408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D2BE-EDDA-4768-929C-3AB47B7AA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63B7-3B70-4009-9CD9-A99654DD7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6D7-9B41-4D9E-9809-03FC703AF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CCFC-42FB-46A2-960B-862F6B49B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ABCC-8FA5-4DED-AFD2-30982CB1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0241-10E6-412B-8836-6022107E0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9597-1CAA-4A09-8DA9-125BEA8C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F786-D269-4A56-8A1C-95A6C669F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0D60-5486-4FFE-B699-690923666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9263-E8E4-4225-B524-16CEEB7CD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3C13-D6C2-472B-8995-7BA031402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E764-6F16-403C-948E-30531EEC8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DC44-86FE-440D-843F-92F45918B8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E711-4B0F-4886-BDC0-B2738C27C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6B37-A29B-48CF-A151-68AB277BC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086C-09A7-4726-93D9-D807CFB66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7547-D11B-482E-BDB0-91BA1069F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D803-B0CA-4FDA-8C55-14A94C4E1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7EE9-2E40-4958-A7DB-28CF4F889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976B-EB66-4B14-971F-F63B8246D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AFE3-5889-4134-A729-F5183DADB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0F0-5D5A-4568-B645-19656A66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el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sts and Benef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Tra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-1.jpg"/>
          <p:cNvPicPr/>
          <p:nvPr/>
        </p:nvPicPr>
        <p:blipFill>
          <a:blip r:embed="rId1"/>
          <a:stretch/>
        </p:blipFill>
        <p:spPr>
          <a:xfrm>
            <a:off x="2666880" y="3429000"/>
            <a:ext cx="3942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40BA-5D6B-40E8-92A2-227FF8EB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Return on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vestment (ROI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omparison of the cost of a training program relative to its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involves dividing the net benefit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urn on Investment =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Benefits-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6E91-5DBD-496F-92BB-969ED4334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30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ethod to forecast the financial benefits that result from human resource programs such as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481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9D76-858E-4E4F-A445-5CA57C3A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factors to consider in calculating the utility of 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0">
              <a:spcBef>
                <a:spcPts val="3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ness (effec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ndard deviation of job performance in dollars of untrained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 employees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ration training benefits will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CB8B-F01D-47EC-819F-9D9200DC0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tility of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U = (T)(N)(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)(SDy) – (N)(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210960" y="3429000"/>
            <a:ext cx="90223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tility, or dollar value of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years the training has a continued effe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people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ffec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deviation of job performance in dollars of the untrained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training each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BF0F-9E32-4C75-BA75-363F2A3BC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reak-even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ding the value at which benefits equal costs and utility is equal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133720" y="3855960"/>
            <a:ext cx="318924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Utility =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7" descr="12-5.jpg"/>
          <p:cNvPicPr/>
          <p:nvPr/>
        </p:nvPicPr>
        <p:blipFill>
          <a:blip r:embed="rId1"/>
          <a:stretch/>
        </p:blipFill>
        <p:spPr>
          <a:xfrm>
            <a:off x="5486400" y="29718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EA1B-2EC7-4C31-AE61-48401481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not an exact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and judgements have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ensure there is credibility in process of determining cost-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clients must perceive benefits estimates as credible, believable, and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need to be wary of promising more than they can realistically deliver; manag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3FB7-9E2A-4436-8052-BDA254A1F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redibility of benefit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927600" indent="0">
              <a:spcBef>
                <a:spcPts val="349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credible and reli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ain approaches and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must appear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0120" y="5148360"/>
            <a:ext cx="27183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s Notebook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39D7-AB5D-4812-8DEF-A7CEE1AB1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stages of the ISD model have now been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elements are identifying, developing, delivering, and evaluating training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manage any of the critical elements will have negative impacts on the training and the achievement of the training relate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86A7-83BD-48E4-B8D1-8CD44B43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nd approaches for calculating costs and benefits of training programs wer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between cost-effectiveness, cost- benefit analysis  were discussed as were examples of the calculation of costs, benefits, net benefit, BCR and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this information for budgeting and comparing costs, and training evaluation wer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approach - Utility analysis -  wa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redibility when estimating the financial benefits of training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3A97-D81A-47CE-9357-938BB9E08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rainers should calculate the costs and benefits of training and development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approaches for costing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ce between cost-effectiveness and cost-benefit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alculate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915F-EF54-4EE9-B2D1-B07F25D97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onduct a net benefit analysis, benefit-cost ratio, and return on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utility analysis and describe how to calculate the utility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importance of credibility when estimating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8D2D-0208-42D5-B58D-2AA865F40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cess of identifying all the expenditures used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ritical element in the ISD model both in the design and evalu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2-2.jpg"/>
          <p:cNvPicPr/>
          <p:nvPr/>
        </p:nvPicPr>
        <p:blipFill>
          <a:blip r:embed="rId1"/>
          <a:stretch/>
        </p:blipFill>
        <p:spPr>
          <a:xfrm>
            <a:off x="5138640" y="2362320"/>
            <a:ext cx="4005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697B-3493-4410-B2EA-97997058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Approach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, program development, delivery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nature or kind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cost categories: direct costs, indirect costs, development costs, overhead costs, and trainee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9DC7-869D-4A3D-B3C5-BCDAC978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aring the Costs of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ble 12.4 demonstrates some important aspects of costing and comparing training program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ing sheets can be modified to meet an organization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of detail varies according t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choice regarding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cheapes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99A8-197E-47A1-9485-E107439A2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effectiveness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monetary cost of training to the benefit of training in 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benefit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cost of training in monetary terms to the benefits of training in non-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9266-3BCB-472F-8D11-80CA778BF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t benefi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estimated value of the performance improvement minus the cost of improv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efit Cost Rati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benefit divided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019F-B735-47FA-B264-48E1A64D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have cost effectiveness and want to determine cost benefit.  Will have to convert  measures to monetar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1:  Focus on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2:  Determine a value for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3:  Calculate the change i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4:  Obtain an annual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5:  Determine the annu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 Trainer’s Notebook 12.1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36:25Z</dcterms:modified>
  <cp:revision>376</cp:revision>
  <dc:subject/>
  <dc:title>Ch 12</dc:title>
</cp:coreProperties>
</file>